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B18A-0D9C-4140-839C-F57996FD9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54C6-443F-47FA-8A79-E9F8B6765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899B-632A-4187-A73D-4F88A4585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DAFA-1CA0-4E6A-81BB-FE2770A4E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5BC4-5F09-427F-ABF2-59C2F3566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2AC0-48F0-4281-B70E-BD2BE2951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1F9D-99E1-4A8A-AD2E-D8E47CACB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C808-C88E-4FAC-A80B-055514D50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4878-FACD-421C-BDF1-7B3DA2671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68C0-DC10-4BA8-BBE8-EBF4FCA3B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147B-07D1-4356-9C8A-E0408072E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532E-7482-4B22-89C7-D99D5988A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2560" y="6657840"/>
            <a:ext cx="29574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3a0e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"/>
              </a:rPr>
              <a:t>Confidential – version July 14th – BMG CM PM PP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176720" y="6642360"/>
            <a:ext cx="79056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3a0e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3C37-5861-449D-B8B6-F4F0931CBF52}" type="slidenum">
              <a:rPr b="0" lang="de-DE" sz="900" spc="-1" strike="noStrike">
                <a:solidFill>
                  <a:srgbClr val="3a0e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6.wmf"/><Relationship Id="rId22" Type="http://schemas.openxmlformats.org/officeDocument/2006/relationships/image" Target="../media/image5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6.wmf"/><Relationship Id="rId22" Type="http://schemas.openxmlformats.org/officeDocument/2006/relationships/image" Target="../media/image5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4.wmf"/><Relationship Id="rId11" Type="http://schemas.openxmlformats.org/officeDocument/2006/relationships/image" Target="../media/image6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4.wmf"/><Relationship Id="rId22" Type="http://schemas.openxmlformats.org/officeDocument/2006/relationships/image" Target="../media/image6.wmf"/><Relationship Id="rId2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nal Planning Roadmaps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1/CY 2007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for DSB m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548136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uly 2006 – Strictly confidenti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MG CM PM PP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782960" y="1052640"/>
            <a:ext cx="414036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1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152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296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2960" y="1052640"/>
            <a:ext cx="414000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9720" y="1312920"/>
            <a:ext cx="8277120" cy="49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81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799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79440" y="107460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466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84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960" y="530064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200" y="378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2960" y="234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8296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152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1322280"/>
            <a:ext cx="0" cy="4996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2248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03440" y="1312920"/>
            <a:ext cx="688680" cy="4995360"/>
            <a:chOff x="3403440" y="1312920"/>
            <a:chExt cx="688680" cy="4995360"/>
          </a:xfrm>
        </p:grpSpPr>
        <p:sp>
          <p:nvSpPr>
            <p:cNvPr id="108" name=""/>
            <p:cNvSpPr/>
            <p:nvPr/>
          </p:nvSpPr>
          <p:spPr>
            <a:xfrm>
              <a:off x="34034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212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472000" y="1312920"/>
            <a:ext cx="688680" cy="4995360"/>
            <a:chOff x="5472000" y="1312920"/>
            <a:chExt cx="688680" cy="4995360"/>
          </a:xfrm>
        </p:grpSpPr>
        <p:sp>
          <p:nvSpPr>
            <p:cNvPr id="111" name=""/>
            <p:cNvSpPr/>
            <p:nvPr/>
          </p:nvSpPr>
          <p:spPr>
            <a:xfrm>
              <a:off x="547200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068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540560" y="1312920"/>
            <a:ext cx="688680" cy="4995360"/>
            <a:chOff x="7540560" y="1312920"/>
            <a:chExt cx="688680" cy="4995360"/>
          </a:xfrm>
        </p:grpSpPr>
        <p:sp>
          <p:nvSpPr>
            <p:cNvPr id="114" name=""/>
            <p:cNvSpPr/>
            <p:nvPr/>
          </p:nvSpPr>
          <p:spPr>
            <a:xfrm>
              <a:off x="754056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2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Internal Planning Roadmap – Category view</a:t>
            </a:r>
            <a:br>
              <a:rPr sz="1400"/>
            </a:br>
            <a:r>
              <a:rPr b="1" i="1" lang="en-US" sz="1600" spc="-1" strike="noStrike">
                <a:solidFill>
                  <a:srgbClr val="3a0e66"/>
                </a:solidFill>
                <a:latin typeface="Arial"/>
              </a:rPr>
              <a:t>Q3/CY 2006 - Q1/CY 2007</a:t>
            </a:r>
            <a:br>
              <a:rPr sz="1600"/>
            </a:b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based on DS0 (first units shipment)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339280" y="4894200"/>
            <a:ext cx="3999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 rot="5400000">
            <a:off x="3427560" y="2250360"/>
            <a:ext cx="181800" cy="2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72000" bIns="36000" anchor="t" anchorCtr="1" vert="eaVer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4467240"/>
            <a:ext cx="112068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F61 Special E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22200" y="3693240"/>
            <a:ext cx="35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500" spc="-1" strike="noStrike">
                <a:solidFill>
                  <a:srgbClr val="3a0e66"/>
                </a:solidFill>
                <a:latin typeface="Arial"/>
              </a:rPr>
              <a:t>Positionin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093680" y="6106320"/>
            <a:ext cx="4557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93" idx="0"/>
          </p:cNvCxnSpPr>
          <p:nvPr/>
        </p:nvCxnSpPr>
        <p:spPr>
          <a:xfrm flipH="1" rot="16200000">
            <a:off x="5282280" y="808560"/>
            <a:ext cx="1281600" cy="2289960"/>
          </a:xfrm>
          <a:prstGeom prst="curvedConnector5">
            <a:avLst>
              <a:gd name="adj1" fmla="val -17842"/>
              <a:gd name="adj2" fmla="val 50000"/>
              <a:gd name="adj3" fmla="val -17842"/>
            </a:avLst>
          </a:prstGeom>
          <a:ln w="0">
            <a:noFill/>
          </a:ln>
        </p:spPr>
      </p:cxnSp>
      <p:sp>
        <p:nvSpPr>
          <p:cNvPr id="123" name=""/>
          <p:cNvSpPr/>
          <p:nvPr/>
        </p:nvSpPr>
        <p:spPr>
          <a:xfrm>
            <a:off x="179280" y="1312920"/>
            <a:ext cx="463680" cy="49957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 rot="16200000">
            <a:off x="11160" y="301680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erform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9040" y="26398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 rot="16200000">
            <a:off x="31320" y="4478760"/>
            <a:ext cx="71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Image/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41212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9040" y="5457960"/>
            <a:ext cx="127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 rot="16200000">
            <a:off x="103680" y="5749920"/>
            <a:ext cx="5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Afford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 rot="16200000">
            <a:off x="151200" y="1676880"/>
            <a:ext cx="44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a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040" y="1531800"/>
            <a:ext cx="127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2666880"/>
            <a:ext cx="36180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97160" y="3345480"/>
            <a:ext cx="36360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84440" y="3860640"/>
            <a:ext cx="583920" cy="1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-fi EF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925000" y="3063240"/>
            <a:ext cx="7095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24280" y="3917160"/>
            <a:ext cx="495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9840" y="3496320"/>
            <a:ext cx="4525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58600" y="522684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074640" y="572688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42920" y="6015960"/>
            <a:ext cx="630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ircon 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1680" y="6453360"/>
            <a:ext cx="1716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bject to change without notic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63360" y="285660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l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59720" y="5459400"/>
            <a:ext cx="9795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71 Butterf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26560" y="5445000"/>
            <a:ext cx="9032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51 Value P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796000" y="5299920"/>
            <a:ext cx="68904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gan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67400" y="2415240"/>
            <a:ext cx="4096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476360" y="440208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3651120" y="22766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592280" y="336708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2149560" y="480708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5019840" y="515772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6316560" y="59594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2433600" y="538956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2"/>
          <a:stretch/>
        </p:blipFill>
        <p:spPr>
          <a:xfrm>
            <a:off x="2146320" y="54450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6361200" y="51944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4"/>
          <a:stretch/>
        </p:blipFill>
        <p:spPr>
          <a:xfrm>
            <a:off x="6566040" y="552924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5"/>
          <a:stretch/>
        </p:blipFill>
        <p:spPr>
          <a:xfrm>
            <a:off x="4416480" y="27464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"/>
          <a:stretch/>
        </p:blipFill>
        <p:spPr>
          <a:xfrm>
            <a:off x="6300720" y="2354400"/>
            <a:ext cx="265320" cy="422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"/>
          <a:stretch/>
        </p:blipFill>
        <p:spPr>
          <a:xfrm>
            <a:off x="2811600" y="300672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8"/>
          <a:stretch/>
        </p:blipFill>
        <p:spPr>
          <a:xfrm>
            <a:off x="2195640" y="321300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"/>
          <a:stretch/>
        </p:blipFill>
        <p:spPr>
          <a:xfrm>
            <a:off x="898560" y="254016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0"/>
          <a:stretch/>
        </p:blipFill>
        <p:spPr>
          <a:xfrm>
            <a:off x="2184480" y="3798720"/>
            <a:ext cx="226800" cy="466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1"/>
          <a:stretch/>
        </p:blipFill>
        <p:spPr>
          <a:xfrm>
            <a:off x="2784600" y="386064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2"/>
          <a:stretch/>
        </p:blipFill>
        <p:spPr>
          <a:xfrm>
            <a:off x="915840" y="6012000"/>
            <a:ext cx="200160" cy="422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10640" y="107172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367800" y="4282200"/>
            <a:ext cx="4827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3"/>
          <a:stretch/>
        </p:blipFill>
        <p:spPr>
          <a:xfrm>
            <a:off x="3154320" y="42210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6637320" y="4493520"/>
            <a:ext cx="5047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09fc2"/>
                </a:solidFill>
                <a:latin typeface="Arial"/>
              </a:rPr>
              <a:t>Chag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4"/>
          <a:stretch/>
        </p:blipFill>
        <p:spPr>
          <a:xfrm>
            <a:off x="6372360" y="444672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5"/>
          <a:stretch/>
        </p:blipFill>
        <p:spPr>
          <a:xfrm>
            <a:off x="7954920" y="3762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20240" y="476280"/>
            <a:ext cx="75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Did not reac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m-alpha y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782960" y="1052640"/>
            <a:ext cx="414036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1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152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296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2960" y="1052640"/>
            <a:ext cx="414000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9720" y="1312920"/>
            <a:ext cx="8277120" cy="49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81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99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79440" y="107460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466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184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2960" y="530064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0200" y="378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960" y="234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96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152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00360" y="1322280"/>
            <a:ext cx="0" cy="4996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3344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2248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03440" y="1312920"/>
            <a:ext cx="688680" cy="4995360"/>
            <a:chOff x="3403440" y="1312920"/>
            <a:chExt cx="688680" cy="4995360"/>
          </a:xfrm>
        </p:grpSpPr>
        <p:sp>
          <p:nvSpPr>
            <p:cNvPr id="193" name=""/>
            <p:cNvSpPr/>
            <p:nvPr/>
          </p:nvSpPr>
          <p:spPr>
            <a:xfrm>
              <a:off x="34034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212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472000" y="1312920"/>
            <a:ext cx="688680" cy="4995360"/>
            <a:chOff x="5472000" y="1312920"/>
            <a:chExt cx="688680" cy="4995360"/>
          </a:xfrm>
        </p:grpSpPr>
        <p:sp>
          <p:nvSpPr>
            <p:cNvPr id="196" name=""/>
            <p:cNvSpPr/>
            <p:nvPr/>
          </p:nvSpPr>
          <p:spPr>
            <a:xfrm>
              <a:off x="547200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6068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540560" y="1312920"/>
            <a:ext cx="688680" cy="4995360"/>
            <a:chOff x="7540560" y="1312920"/>
            <a:chExt cx="688680" cy="4995360"/>
          </a:xfrm>
        </p:grpSpPr>
        <p:sp>
          <p:nvSpPr>
            <p:cNvPr id="199" name=""/>
            <p:cNvSpPr/>
            <p:nvPr/>
          </p:nvSpPr>
          <p:spPr>
            <a:xfrm>
              <a:off x="754056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292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Internal Planning Roadmap – Category view </a:t>
            </a:r>
            <a:r>
              <a:rPr b="1" lang="en-US" sz="1400" spc="-1" strike="noStrike">
                <a:solidFill>
                  <a:srgbClr val="3a0e66"/>
                </a:solidFill>
                <a:latin typeface="Arial"/>
              </a:rPr>
              <a:t>(1/2)</a:t>
            </a:r>
            <a:br>
              <a:rPr sz="1400"/>
            </a:br>
            <a:r>
              <a:rPr b="1" i="1" lang="en-US" sz="1600" spc="-1" strike="noStrike">
                <a:solidFill>
                  <a:srgbClr val="3a0e66"/>
                </a:solidFill>
                <a:latin typeface="Arial"/>
              </a:rPr>
              <a:t>Q3/CY 2006 - Q1/CY 2007 </a:t>
            </a:r>
            <a:br>
              <a:rPr sz="1600"/>
            </a:b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based on DSA (2/3 ramp up volume available)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307680" y="4894200"/>
            <a:ext cx="3999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 rot="5400000">
            <a:off x="4652280" y="2250360"/>
            <a:ext cx="181800" cy="2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72000" bIns="36000" anchor="t" anchorCtr="1" vert="eaVer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50960" y="4389480"/>
            <a:ext cx="112068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F61 Special E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22200" y="3693240"/>
            <a:ext cx="35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500" spc="-1" strike="noStrike">
                <a:solidFill>
                  <a:srgbClr val="3a0e66"/>
                </a:solidFill>
                <a:latin typeface="Arial"/>
              </a:rPr>
              <a:t>Positionin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979640" y="6106320"/>
            <a:ext cx="4557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78" idx="0"/>
          </p:cNvCxnSpPr>
          <p:nvPr/>
        </p:nvCxnSpPr>
        <p:spPr>
          <a:xfrm flipH="1" rot="16200000">
            <a:off x="5282280" y="808560"/>
            <a:ext cx="1281600" cy="2289960"/>
          </a:xfrm>
          <a:prstGeom prst="curvedConnector5">
            <a:avLst>
              <a:gd name="adj1" fmla="val -17842"/>
              <a:gd name="adj2" fmla="val 50000"/>
              <a:gd name="adj3" fmla="val -17842"/>
            </a:avLst>
          </a:prstGeom>
          <a:ln w="0">
            <a:noFill/>
          </a:ln>
        </p:spPr>
      </p:cxnSp>
      <p:sp>
        <p:nvSpPr>
          <p:cNvPr id="208" name=""/>
          <p:cNvSpPr/>
          <p:nvPr/>
        </p:nvSpPr>
        <p:spPr>
          <a:xfrm>
            <a:off x="179280" y="1312920"/>
            <a:ext cx="463680" cy="49957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 rot="16200000">
            <a:off x="11160" y="301680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erform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9040" y="26398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 rot="16200000">
            <a:off x="31320" y="4478760"/>
            <a:ext cx="71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Image/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9040" y="41212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9040" y="5457960"/>
            <a:ext cx="127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 rot="16200000">
            <a:off x="103680" y="5749920"/>
            <a:ext cx="5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Afford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 rot="16200000">
            <a:off x="151200" y="1676880"/>
            <a:ext cx="44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a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9040" y="1531800"/>
            <a:ext cx="127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54200" y="2666880"/>
            <a:ext cx="362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200400" y="3345480"/>
            <a:ext cx="36360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75720" y="3860640"/>
            <a:ext cx="584280" cy="1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-fi EF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366440" y="3001320"/>
            <a:ext cx="7095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292640" y="3917160"/>
            <a:ext cx="495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3760" y="3496320"/>
            <a:ext cx="4525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756400" y="5226840"/>
            <a:ext cx="5839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652440" y="572688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020720" y="6015960"/>
            <a:ext cx="630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ircon 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1680" y="6453360"/>
            <a:ext cx="1716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bject to change without notic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04080" y="2856600"/>
            <a:ext cx="5839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l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937520" y="5459400"/>
            <a:ext cx="9795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71 Butterf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204360" y="5445000"/>
            <a:ext cx="9032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51 Value P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145280" y="5222160"/>
            <a:ext cx="68904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gan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834320" y="2415240"/>
            <a:ext cx="4096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689200" y="440208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876920" y="227664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2716200" y="336708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117960" y="480708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6316560" y="515772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6894360" y="59594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3011400" y="538956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2724120" y="5445000"/>
            <a:ext cx="265320" cy="422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6939000" y="51944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7143840" y="552924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5856120" y="274644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7667640" y="23544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4253040" y="300672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098880" y="321300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2832120" y="254016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0"/>
          <a:stretch/>
        </p:blipFill>
        <p:spPr>
          <a:xfrm>
            <a:off x="2976480" y="379872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1"/>
          <a:stretch/>
        </p:blipFill>
        <p:spPr>
          <a:xfrm>
            <a:off x="4152960" y="386064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2"/>
          <a:stretch/>
        </p:blipFill>
        <p:spPr>
          <a:xfrm>
            <a:off x="2432160" y="6012000"/>
            <a:ext cx="199800" cy="422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10640" y="107172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94320" y="4358520"/>
            <a:ext cx="48240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3"/>
          <a:stretch/>
        </p:blipFill>
        <p:spPr>
          <a:xfrm>
            <a:off x="4379760" y="42210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flipH="1">
            <a:off x="6486480" y="4412520"/>
            <a:ext cx="5047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09fc2"/>
                </a:solidFill>
                <a:latin typeface="Arial"/>
              </a:rPr>
              <a:t>Chag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4"/>
          <a:stretch/>
        </p:blipFill>
        <p:spPr>
          <a:xfrm>
            <a:off x="6950160" y="444672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5"/>
          <a:stretch/>
        </p:blipFill>
        <p:spPr>
          <a:xfrm>
            <a:off x="7954920" y="3762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220240" y="476280"/>
            <a:ext cx="75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Did not reac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m-alpha y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7160" y="1324080"/>
            <a:ext cx="412560" cy="498924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6920" y="5510160"/>
            <a:ext cx="371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文鼎中黑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360" y="4068720"/>
            <a:ext cx="336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文鼎中黑"/>
              </a:rPr>
              <a:t>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440" y="2496960"/>
            <a:ext cx="40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文鼎中黑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5960" y="1268280"/>
            <a:ext cx="8277120" cy="49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2560" y="32400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Internal Planning Roadmap – Positioning </a:t>
            </a:r>
            <a:br>
              <a:rPr sz="2000"/>
            </a:br>
            <a:r>
              <a:rPr b="1" i="1" lang="en-US" sz="1600" spc="-1" strike="noStrike">
                <a:solidFill>
                  <a:srgbClr val="3a0e66"/>
                </a:solidFill>
                <a:latin typeface="Arial"/>
              </a:rPr>
              <a:t>Q3/CY 2006 - Q1/CY 2007 </a:t>
            </a:r>
            <a:br>
              <a:rPr sz="1600"/>
            </a:b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Based on DS0 (first units shipment)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12960" y="1190520"/>
            <a:ext cx="207000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1520" y="1190520"/>
            <a:ext cx="206856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2960" y="1190520"/>
            <a:ext cx="207000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2960" y="1190520"/>
            <a:ext cx="206856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2960" y="1054080"/>
            <a:ext cx="6208560" cy="13644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812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7992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8800" y="107316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Y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4668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1848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2960" y="501012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960" y="314172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8296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152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1296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3344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2248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403440" y="1316160"/>
            <a:ext cx="688680" cy="4921200"/>
            <a:chOff x="3403440" y="1316160"/>
            <a:chExt cx="688680" cy="4921200"/>
          </a:xfrm>
        </p:grpSpPr>
        <p:sp>
          <p:nvSpPr>
            <p:cNvPr id="281" name=""/>
            <p:cNvSpPr/>
            <p:nvPr/>
          </p:nvSpPr>
          <p:spPr>
            <a:xfrm>
              <a:off x="3403440" y="13161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2120" y="13161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467320" y="1341360"/>
            <a:ext cx="688680" cy="4921200"/>
            <a:chOff x="5467320" y="1341360"/>
            <a:chExt cx="688680" cy="4921200"/>
          </a:xfrm>
        </p:grpSpPr>
        <p:sp>
          <p:nvSpPr>
            <p:cNvPr id="284" name=""/>
            <p:cNvSpPr/>
            <p:nvPr/>
          </p:nvSpPr>
          <p:spPr>
            <a:xfrm>
              <a:off x="5467320" y="13413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56000" y="13413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51520" y="1050840"/>
            <a:ext cx="2068560" cy="13644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76200" y="1062000"/>
            <a:ext cx="367920" cy="122040"/>
          </a:xfrm>
          <a:prstGeom prst="rect">
            <a:avLst/>
          </a:prstGeom>
          <a:solidFill>
            <a:srgbClr val="b09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Y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1680" y="6453360"/>
            <a:ext cx="1716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bject to change without notic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0880" y="2309400"/>
            <a:ext cx="1238400" cy="1179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The feminine side of 3G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minine desig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Mp + VGA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amer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VGA 256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LED 2nd 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usic ke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240" y="1201320"/>
            <a:ext cx="1228680" cy="1218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EF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Thrilling Spe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And Top Performance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MTS/HSDP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2 Mp camera AF +  V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G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camcord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and music streaming in realtime via HSDP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telligent power saving via ight senso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872480" y="225360"/>
            <a:ext cx="199800" cy="422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232120" y="450720"/>
            <a:ext cx="22644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3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13000" y="450720"/>
            <a:ext cx="22644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2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971640" y="4516200"/>
            <a:ext cx="1380960" cy="1072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Urban Activ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mproved resistance against shock, splash, water &amp; dus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2G EDG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cratch resistant displa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usic player and bundled stereo heads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tegrated tor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93880" y="4438800"/>
            <a:ext cx="1230480" cy="880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The Perfect Fi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urprising „Liquid“ desig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5 mm thin bar 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GSM/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QVGA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692360" y="1391040"/>
            <a:ext cx="1350720" cy="75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ysterious Sensation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novative FSR (Force sensitive resistor) technology to avoid unintended u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3.2 Mp AF + VG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6 M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68800" y="4669200"/>
            <a:ext cx="979560" cy="937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Simple Business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Authentic materia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CIF+ 256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Laser poin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0120" y="5669640"/>
            <a:ext cx="928800" cy="64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Basic Colorful Communication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k colo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2760" y="5751000"/>
            <a:ext cx="1407960" cy="548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Zircon F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My reliable communication tool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491160" y="5386680"/>
            <a:ext cx="974880" cy="858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y Spontaneous Sharing Companion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GA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70280" y="1298520"/>
            <a:ext cx="1306440" cy="987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The Smart Navigator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S Mobile 5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S/WLAN/VoI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WERTY keypa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d-b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VGA 256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5960" y="3430440"/>
            <a:ext cx="1035000" cy="95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61Special Edi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Feminine Sophistication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lower pattern desig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irror display with dedicat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ard ke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508640" y="2352240"/>
            <a:ext cx="1242720" cy="1222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lc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Authentic Multimedia power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lim multimed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2 Mp camera turn able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4’’ QVGA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ll screen 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ereo audio qua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19520" y="1731960"/>
            <a:ext cx="264960" cy="4222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>
            <a:off x="2685960" y="5623560"/>
            <a:ext cx="1022400" cy="706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21 Butterf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Stylish and small slider phon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STN 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Lany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00040" y="5647320"/>
            <a:ext cx="966960" cy="706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51 Value P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Stylish and small clam phon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CSTN color displa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M radio HS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241240" y="1343520"/>
            <a:ext cx="1346040" cy="93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l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usic player meets phon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MTS/EDGE/HSDP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VGA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P3 player with music ke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Mpix camera + VG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ereo speak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350680" y="4524840"/>
            <a:ext cx="1165320" cy="77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rgan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For fun seekers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P3 playe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&amp; 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usic ke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nd OLED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3573360" y="133668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123920" y="576252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2976480" y="260208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1104840" y="186048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1536840" y="371160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4356000" y="231444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2463840" y="56088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2246400" y="55166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1"/>
          <a:stretch/>
        </p:blipFill>
        <p:spPr>
          <a:xfrm>
            <a:off x="6516720" y="14130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2"/>
          <a:stretch/>
        </p:blipFill>
        <p:spPr>
          <a:xfrm>
            <a:off x="6372360" y="472140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405640" y="246240"/>
            <a:ext cx="200160" cy="421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4"/>
          <a:stretch/>
        </p:blipFill>
        <p:spPr>
          <a:xfrm>
            <a:off x="6332400" y="53006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5"/>
          <a:stretch/>
        </p:blipFill>
        <p:spPr>
          <a:xfrm>
            <a:off x="6162840" y="573876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6"/>
          <a:stretch/>
        </p:blipFill>
        <p:spPr>
          <a:xfrm>
            <a:off x="1801800" y="430200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7"/>
          <a:stretch/>
        </p:blipFill>
        <p:spPr>
          <a:xfrm>
            <a:off x="2500200" y="456552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8"/>
          <a:stretch/>
        </p:blipFill>
        <p:spPr>
          <a:xfrm>
            <a:off x="5040360" y="5016600"/>
            <a:ext cx="199800" cy="422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395440" y="3483000"/>
            <a:ext cx="0" cy="0"/>
          </a:xfrm>
          <a:prstGeom prst="line">
            <a:avLst/>
          </a:prstGeom>
          <a:ln w="64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600280" y="3747240"/>
            <a:ext cx="1325520" cy="655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Instant Flexibility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mall UMTS bar 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CIF+ 256k color display 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79280" y="2465640"/>
            <a:ext cx="1325520" cy="847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-fi EF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The Fusion of Style And Music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dicated music keys, part of the clamshell design 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P3 player &amp; 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>
            <a:off x="2427120" y="3800520"/>
            <a:ext cx="200160" cy="422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270240" y="3192480"/>
            <a:ext cx="10857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ink variant of SL7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eminine pack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0"/>
          <a:stretch/>
        </p:blipFill>
        <p:spPr>
          <a:xfrm>
            <a:off x="3084480" y="3049560"/>
            <a:ext cx="265320" cy="422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1"/>
          <a:stretch/>
        </p:blipFill>
        <p:spPr>
          <a:xfrm>
            <a:off x="1403280" y="2890800"/>
            <a:ext cx="227160" cy="466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flipH="1">
            <a:off x="6659640" y="3790440"/>
            <a:ext cx="1006560" cy="1072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ultimedia ch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2G 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ducing and compact slider design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utitive U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2"/>
          <a:stretch/>
        </p:blipFill>
        <p:spPr>
          <a:xfrm>
            <a:off x="6454800" y="4076640"/>
            <a:ext cx="264960" cy="42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ratsimbazafyk</cp:lastModifiedBy>
  <dcterms:modified xsi:type="dcterms:W3CDTF">2006-07-18T13:19:04Z</dcterms:modified>
  <cp:revision>2275</cp:revision>
  <dc:subject/>
  <dc:title>PowerPoint 簡報</dc:title>
</cp:coreProperties>
</file>